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10.jpeg" ContentType="image/jpeg"/>
  <Override PartName="/ppt/media/image11.wmf" ContentType="image/x-wmf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765-C752-4148-953B-F6C57B0A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908-7E7E-4088-900A-C09129A8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D9BD-0FCC-46B5-BC22-728C30E6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BE5E-F139-499E-867C-EEA184B9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863B-51F9-4E7D-8061-5D33917B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04C0-ED71-4A79-8762-2EA1B5F7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236-9945-4968-A2CE-531A330F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B4F-4B9A-4DC9-BF1F-3508152D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990-95A5-4DAB-9B82-F8C26349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EFE-087D-4DC7-B955-4F7EE74A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4B4-40A5-45BE-9C9A-CC889C31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3E5-D8B7-4FC4-9BEB-8118D31D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E477-6FBB-4A25-8741-029AB833F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lv.zcache.com/funny_money_card-p137568192501206813qqld_400.jpg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33360" y="533376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0"/>
            <a:ext cx="37339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Chiller"/>
              </a:rPr>
              <a:t>ScRatch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Chiller"/>
              <a:ea typeface="Chiller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Scratches was grey faced  Ninja cat, but a very sad ninja cat because h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 Geri 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2819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mm fish taste g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5334120" cy="4081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6400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 Geri's death came money, and Mr. Scratches got 10 million dollars from the wi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3754440"/>
            <a:ext cx="2949840" cy="3103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62520" y="5181480"/>
            <a:ext cx="146052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638680" y="441972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29000" y="64771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 art all th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 there was a person who was very, very bad and he was an angry leprechaun named A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19720" y="3048120"/>
            <a:ext cx="4190760" cy="3809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781680" y="6400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n the evil leprechaun went up to Mr. Scratches and said give me all the money! In a harsh and angry voice. But then Mr. Scratches said simply, “no” and Aran the evil leprechaun left and was never seen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248520" y="4419720"/>
            <a:ext cx="1888920" cy="1657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9880" y="34290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3440160"/>
            <a:ext cx="3886200" cy="3417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32448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29000" y="380880"/>
            <a:ext cx="3429000" cy="13716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 boy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03848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6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cache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unny mone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. 20, 10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lv.zcache.com/funny_money_card-p137568192501206813qqld_400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ltimate X-m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10.20.2010, http://www.google.com/imgres?imgurl=http://sydlexia.com/blogstuff/wheelchair_kitty_cat_2.png&amp;imgrefurl=http://despair.sydlexia.com/&amp;usg=__7BcK9xmS8PJ5fVzHJuVtgR-1xqE=&amp;h=586&amp;w=666&amp;sz=374&amp;hl=en&amp;start=3&amp;zoom=1&amp;itbs=1&amp;tbnid=vp5wJPG3PwwBAM:&amp;tbnh=121&amp;tbnw=138&amp;prev=/images%3Fq%3Dcat%2Bin%2Bwheelchair%26hl%3Den%26gbv%3D2%26tbs%3Disch: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art slides 2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, 3,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4, 5, 6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30032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300320" y="2881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8:44:49Z</dcterms:created>
  <dc:creator>install</dc:creator>
  <dc:description/>
  <dc:language>en-US</dc:language>
  <cp:lastModifiedBy>install</cp:lastModifiedBy>
  <dcterms:modified xsi:type="dcterms:W3CDTF">2010-11-05T19:25:54Z</dcterms:modified>
  <cp:revision>15</cp:revision>
  <dc:subject/>
  <dc:title>Slide 1</dc:title>
</cp:coreProperties>
</file>